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1EFF-E82F-48A5-8EE8-A6F5C469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B42-68B9-4540-909A-66B80E19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2E6-150C-4CF0-9E15-1960D32E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821C-6BDB-45ED-995C-2E97E47E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E27-AFC6-466A-ADCF-99CA3652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A3A-A79F-4013-814A-C58316DD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3515-0DCA-4FBE-88B6-C321528A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FDA-2992-4759-A908-E9F8C7C7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F60-8556-4086-AE4B-D53C2959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932-36BF-4953-B5E3-0C8B341B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5C9-138E-4D90-8241-B1C017A3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10AC-53DC-4C40-8EE1-728BBE17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AA9-72A4-4A7E-98D4-7A266DD3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0C7-0419-4A36-ABF2-EB6B02D5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51D-5EC2-465A-972A-6D133CA5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CDBC-F62A-4743-B046-92F27635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730-A053-48E0-A1E4-ED85EAFA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371-467F-423A-917E-D67B54E6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6CA-67E1-4B5E-B8A2-E4B086A22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082-522B-4BAF-8204-A46465A6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871D-7FF0-4012-9870-0F3DE51B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E38-0D0A-439D-83FD-871F8130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C97-6891-4641-BEF2-15973782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89C-6677-48DD-A317-BE0A75A6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D5B6-48BD-4FB2-BDE3-40B3E166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B91C-B43B-429D-B4DD-378236AC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E2C-4E93-4567-929B-55ACF33F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890-D318-4975-9CC9-1B371DE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3E0-3ACD-4C9C-87A1-2763EE40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102-CE75-43D4-99C9-28C86CE0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D98-0D7B-458E-8293-B63B77E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EB2-D0DE-49F6-A755-3C751C0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C4A-9151-44FE-8D56-1EB726C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D95-27D6-4A82-B3B7-39D71FAE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C05-771C-4F83-B455-48459184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80A-1BA7-4F78-9571-0A77EA7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229-3F7C-440E-A01A-FA5CBED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01C-23FB-4D43-A675-AAF41E7D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940-5C03-4546-A185-34AC31C5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ABE6-58DE-4B8D-B7D8-5442D9EEAA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И КОМПЛИКАЦИЈЕ У ТОКУ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6 -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ндикације и контраиндикације за вађење зуба, инструментаријум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технике вађења зуба, вађење заломњених зуба, хируршко вађење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аосталих коренова, компликације у току вађења зуб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F4DA-9D5C-4110-B2EC-E33BCE79F2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69800" y="160020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четка вађења зуба потребно је одабрати одговарајуће инстру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ФАЗЕ ВАЂЕЊА ЗУБА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1. ОДВАЈАЊЕ ПРИПОЈА ГИНГИВЕ СА ВЕСТИБУЛАРНЕ И ОРАЛНЕ СТРАНЕ, ОД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Users\Zoran\Downloads\oralna hirurgija\slike\imagesss.jpg"/>
          <p:cNvPicPr/>
          <p:nvPr/>
        </p:nvPicPr>
        <p:blipFill>
          <a:blip r:embed="rId1"/>
          <a:stretch/>
        </p:blipFill>
        <p:spPr>
          <a:xfrm>
            <a:off x="2728800" y="4073400"/>
            <a:ext cx="35290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112-1DA9-4CF5-AF43-2680FEBB6A5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80960" y="176832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2.  АПЛИКАЦИЈА И РЕТЕНЦИЈА КЛЕШТА НА ВРАТ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rcRect l="630" t="26818" r="2425" b="2779"/>
          <a:stretch/>
        </p:blipFill>
        <p:spPr>
          <a:xfrm>
            <a:off x="4836960" y="2708280"/>
            <a:ext cx="4307040" cy="213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577800" y="2570040"/>
            <a:ext cx="483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краци одговарајућих клешта се утискују испод гингиве, адаптирају на врат зуба, односно у предео фуркације код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зањем ручки, клешта се чврсто фиксирају на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A83-0C30-4DE0-B7B6-96A657FF69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800" y="1768320"/>
            <a:ext cx="848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3. ДИСЛОКАЦИЈА ИЛИ ПОМЕРА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луксације ( померање у вестибуларном и оралном павц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ротације ( окретање зуба око његове осов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C:\Users\Zoran\Downloads\oralna hirurgija\slike\slide-20-728 (1).jpg"/>
          <p:cNvPicPr/>
          <p:nvPr/>
        </p:nvPicPr>
        <p:blipFill>
          <a:blip r:embed="rId1"/>
          <a:srcRect l="-175" t="0" r="0" b="52701"/>
          <a:stretch/>
        </p:blipFill>
        <p:spPr>
          <a:xfrm>
            <a:off x="985680" y="4013280"/>
            <a:ext cx="1441440" cy="168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Users\Zoran\Downloads\oralna hirurgija\slike\slide-20-728 (1).jpg"/>
          <p:cNvPicPr/>
          <p:nvPr/>
        </p:nvPicPr>
        <p:blipFill>
          <a:blip r:embed="rId2"/>
          <a:srcRect l="651" t="57690" r="2328" b="0"/>
          <a:stretch/>
        </p:blipFill>
        <p:spPr>
          <a:xfrm>
            <a:off x="2406600" y="4017960"/>
            <a:ext cx="1395360" cy="1684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C:\Users\Zoran\Downloads\oralna hirurgija\slike\slide-21-728.jpg"/>
          <p:cNvPicPr/>
          <p:nvPr/>
        </p:nvPicPr>
        <p:blipFill>
          <a:blip r:embed="rId3"/>
          <a:stretch/>
        </p:blipFill>
        <p:spPr>
          <a:xfrm>
            <a:off x="3967200" y="4006800"/>
            <a:ext cx="1619280" cy="17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Zoran\Downloads\oralna hirurgija\slike\slide-18-728.jpg"/>
          <p:cNvPicPr/>
          <p:nvPr/>
        </p:nvPicPr>
        <p:blipFill>
          <a:blip r:embed="rId4"/>
          <a:stretch/>
        </p:blipFill>
        <p:spPr>
          <a:xfrm>
            <a:off x="5854680" y="4089240"/>
            <a:ext cx="1981080" cy="16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143-C8E4-4ED2-9305-543DAD5BF9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Zoran\Downloads\oralna hirurgija\slike\slide-21-728.jpg"/>
          <p:cNvPicPr/>
          <p:nvPr/>
        </p:nvPicPr>
        <p:blipFill>
          <a:blip r:embed="rId1"/>
          <a:stretch/>
        </p:blipFill>
        <p:spPr>
          <a:xfrm>
            <a:off x="585720" y="1763640"/>
            <a:ext cx="1619280" cy="1886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490840" y="1792440"/>
            <a:ext cx="63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ма ротације ваде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централни секути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њи премол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rcRect l="2242" t="983" r="2595" b="2595"/>
          <a:stretch/>
        </p:blipFill>
        <p:spPr>
          <a:xfrm>
            <a:off x="6184800" y="1528920"/>
            <a:ext cx="2718000" cy="275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Zoran\Downloads\oralna hirurgija\slike\slide-20-728 (1).jpg"/>
          <p:cNvPicPr/>
          <p:nvPr/>
        </p:nvPicPr>
        <p:blipFill>
          <a:blip r:embed="rId3"/>
          <a:srcRect l="2328" t="0" r="0" b="52701"/>
          <a:stretch/>
        </p:blipFill>
        <p:spPr>
          <a:xfrm>
            <a:off x="179280" y="4289400"/>
            <a:ext cx="1405080" cy="16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Zoran\Downloads\oralna hirurgija\slike\slide-20-728 (1).jpg"/>
          <p:cNvPicPr/>
          <p:nvPr/>
        </p:nvPicPr>
        <p:blipFill>
          <a:blip r:embed="rId4"/>
          <a:srcRect l="1477" t="56743" r="0" b="-3548"/>
          <a:stretch/>
        </p:blipFill>
        <p:spPr>
          <a:xfrm>
            <a:off x="1446120" y="4309920"/>
            <a:ext cx="1516320" cy="1785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3213000" y="4692600"/>
            <a:ext cx="43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КРЕТИМА ЛУКСАЦИЈЕ СВИ ОСТАЛИ ЗУ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DC0-6733-410C-B5A2-A950851D1B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17680" y="1828800"/>
            <a:ext cx="81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4. ИЗВЛАЧЕЊЕ ЗУБА ИЗ АЛВЕ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:\Users\Zoran\Downloads\oralna hirurgija\slike\imagesva.jpg"/>
          <p:cNvPicPr/>
          <p:nvPr/>
        </p:nvPicPr>
        <p:blipFill>
          <a:blip r:embed="rId1"/>
          <a:stretch/>
        </p:blipFill>
        <p:spPr>
          <a:xfrm>
            <a:off x="5438880" y="195408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473040" y="2909880"/>
            <a:ext cx="487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влачење зуба се врши лагано и по правилу, према вестибуларној ст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брињавање ран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AAF-144B-4705-ACE6-0C9A50D331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09680" y="1335240"/>
            <a:ext cx="8313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уклањања зуба из алвеоле треба проверити да ли је он извађен у целости или 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брада ран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ањање гранулационог ткива, заломљеног септума или кортикалне ламеле односно њихово скраћење клештима за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ецање маказицама нагњечене гингиве и хиперпластичних папила које упадају у алве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шивање поцепане гингиве у дужини од преко 0,5 ц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зиција кортикалних ламела стезањем алвеоле преко г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C:\Users\Zoran\Downloads\oralna hirurgija\slike\imagesmm.jpg"/>
          <p:cNvPicPr/>
          <p:nvPr/>
        </p:nvPicPr>
        <p:blipFill>
          <a:blip r:embed="rId1"/>
          <a:stretch/>
        </p:blipFill>
        <p:spPr>
          <a:xfrm>
            <a:off x="442800" y="4689360"/>
            <a:ext cx="1876680" cy="155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Users\Zoran\Downloads\oralna hirurgija\slike\imagesmmnmnmn.jpg"/>
          <p:cNvPicPr/>
          <p:nvPr/>
        </p:nvPicPr>
        <p:blipFill>
          <a:blip r:embed="rId2"/>
          <a:stretch/>
        </p:blipFill>
        <p:spPr>
          <a:xfrm>
            <a:off x="3094200" y="4699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Zoran\Downloads\oralna hirurgija\slike\imagesnbn.jpg"/>
          <p:cNvPicPr/>
          <p:nvPr/>
        </p:nvPicPr>
        <p:blipFill>
          <a:blip r:embed="rId3"/>
          <a:stretch/>
        </p:blipFill>
        <p:spPr>
          <a:xfrm>
            <a:off x="6273720" y="4743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985-A0CA-4302-875A-32804F8B45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69800" y="1708200"/>
            <a:ext cx="816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екстракција зуба, применом правилног поступка, завршава се тзв. једноставним вађењем. Међутим, у око 10 % случајева настаје прелом круне или корена зуба, што изискује примену другачијих поступака – “компликовано вађење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Zoran\Downloads\oralna hirurgija\slike\slide-19-728 (1).jpg"/>
          <p:cNvPicPr/>
          <p:nvPr/>
        </p:nvPicPr>
        <p:blipFill>
          <a:blip r:embed="rId1"/>
          <a:stretch/>
        </p:blipFill>
        <p:spPr>
          <a:xfrm>
            <a:off x="7682040" y="2766960"/>
            <a:ext cx="11905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Zoran\Downloads\oralna hirurgija\slike\slide-27-728.jpg"/>
          <p:cNvPicPr/>
          <p:nvPr/>
        </p:nvPicPr>
        <p:blipFill>
          <a:blip r:embed="rId2"/>
          <a:stretch/>
        </p:blipFill>
        <p:spPr>
          <a:xfrm>
            <a:off x="6075360" y="3619440"/>
            <a:ext cx="1276200" cy="2048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493560" y="3441600"/>
            <a:ext cx="55342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прелома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Каријесом деструирана кру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вољна грађа вилице и остео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жина , облик и масивност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ој морфологија и међусобни однос кор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диопатска ресорпција корена- риз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7BB-B775-4EB1-A032-739F69C875B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69800" y="1528920"/>
            <a:ext cx="81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ЈЕДНОКОРЕ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Users\Zoran\Downloads\oralna hirurgija\slike\slide-30-728.jpg"/>
          <p:cNvPicPr/>
          <p:nvPr/>
        </p:nvPicPr>
        <p:blipFill>
          <a:blip r:embed="rId1"/>
          <a:stretch/>
        </p:blipFill>
        <p:spPr>
          <a:xfrm>
            <a:off x="839880" y="3670200"/>
            <a:ext cx="2062080" cy="27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Zoran\Downloads\oralna hirurgija\slike\ju1.jpg"/>
          <p:cNvPicPr/>
          <p:nvPr/>
        </p:nvPicPr>
        <p:blipFill>
          <a:blip r:embed="rId2"/>
          <a:stretch/>
        </p:blipFill>
        <p:spPr>
          <a:xfrm>
            <a:off x="3705120" y="3549600"/>
            <a:ext cx="1505160" cy="2933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528480" y="2057400"/>
            <a:ext cx="8374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зуба у висини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испод или изнад нивоа алвеоле у првој трећин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у пределу врха корена ( апикална трећи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Zoran\Downloads\oralna hirurgija\slike\slide-19-728 (1).jpg"/>
          <p:cNvPicPr/>
          <p:nvPr/>
        </p:nvPicPr>
        <p:blipFill>
          <a:blip r:embed="rId3"/>
          <a:srcRect l="5534" t="52303" r="0" b="3947"/>
          <a:stretch/>
        </p:blipFill>
        <p:spPr>
          <a:xfrm>
            <a:off x="6532560" y="3983040"/>
            <a:ext cx="15699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851B-2046-4FCE-A336-84F5D55C1D1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72960" y="193680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ГОРЊИХ МОЛАРА И ПРЕ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C:\Users\Zoran\Downloads\oralna hirurgija\slike\step1.png"/>
          <p:cNvPicPr/>
          <p:nvPr/>
        </p:nvPicPr>
        <p:blipFill>
          <a:blip r:embed="rId1"/>
          <a:stretch/>
        </p:blipFill>
        <p:spPr>
          <a:xfrm>
            <a:off x="5127480" y="2666880"/>
            <a:ext cx="3589560" cy="3132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0"/>
          <p:cNvSpPr/>
          <p:nvPr/>
        </p:nvSpPr>
        <p:spPr>
          <a:xfrm>
            <a:off x="355680" y="3165480"/>
            <a:ext cx="465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релома горњих молара не треба покушавати вађење клеш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боље је приступити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сепарациј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оренова и њиховом појединачном вађе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20B-00ED-436F-88C8-0545F6D696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80960" y="1828800"/>
            <a:ext cx="806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ДОЊИХ 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парација у вестибуло-оралном пра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о се вадо дистални па мезијални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вац вађења зависи од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:\Users\Zoran\Downloads\oralna hirurgija\slike\imagesCATJGBLO.jpg"/>
          <p:cNvPicPr/>
          <p:nvPr/>
        </p:nvPicPr>
        <p:blipFill>
          <a:blip r:embed="rId1"/>
          <a:stretch/>
        </p:blipFill>
        <p:spPr>
          <a:xfrm>
            <a:off x="426960" y="3780000"/>
            <a:ext cx="2835360" cy="21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C:\Users\Zoran\Downloads\oralna hirurgija\slike\iwO6b-fMyP.Vcsg4cRqRqA_m.png"/>
          <p:cNvPicPr/>
          <p:nvPr/>
        </p:nvPicPr>
        <p:blipFill>
          <a:blip r:embed="rId2"/>
          <a:stretch/>
        </p:blipFill>
        <p:spPr>
          <a:xfrm>
            <a:off x="3284640" y="376236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Users\Zoran\Downloads\oralna hirurgija\slike\HXb9Re0PqkB.sYDShDd0Rg_m.png"/>
          <p:cNvPicPr/>
          <p:nvPr/>
        </p:nvPicPr>
        <p:blipFill>
          <a:blip r:embed="rId3"/>
          <a:stretch/>
        </p:blipFill>
        <p:spPr>
          <a:xfrm>
            <a:off x="6566040" y="4186080"/>
            <a:ext cx="229680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EC03-9458-4C6D-A454-57982AFAA8D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69800" y="191304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УБА ЈЕ СКУП ПОСТУПАКА СА ЦИЉЕМ ДА СЕ, УЗ ПРИМЕНУ ОДГОВАРАЈУЋЕ СИЛЕ, ЗУБ ОДВОЈИ ОД АЛВЕОЛЕ И УКЛОНИ ИЗ 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Zoran\Downloads\oralna hirurgija\slike\imagesbh.jpg"/>
          <p:cNvPicPr/>
          <p:nvPr/>
        </p:nvPicPr>
        <p:blipFill>
          <a:blip r:embed="rId1"/>
          <a:srcRect l="24112" t="2882" r="17158" b="3142"/>
          <a:stretch/>
        </p:blipFill>
        <p:spPr>
          <a:xfrm>
            <a:off x="6894360" y="3657600"/>
            <a:ext cx="2076480" cy="2658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200" y="3357720"/>
            <a:ext cx="610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 је у алвеоли фиксиран многобројним колагеним влакнима, распоређеним у различитим правцима, који представљају основни део периодонциј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вађења зуба одговарајућим покретима  се кидају поједина периодонтална влакна  и шири зубна алвеола што омогућава вађење зуба без примене јаке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C2F-144A-4714-B8DE-18FD520778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80960" y="2044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ојединим случајевима, вађење заломљеног корена може најбезбедније да се изведе хируршким путем, односно трепанацијом алвеоле после одизања мукопериосталног реж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корени који су дуже време заостали у вилици, то је и једини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opo.jpg"/>
          <p:cNvPicPr/>
          <p:nvPr/>
        </p:nvPicPr>
        <p:blipFill>
          <a:blip r:embed="rId1"/>
          <a:srcRect l="113" t="18426" r="51266" b="1952"/>
          <a:stretch/>
        </p:blipFill>
        <p:spPr>
          <a:xfrm>
            <a:off x="3621240" y="3886200"/>
            <a:ext cx="1697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96BD-2630-4076-B933-D746CBF9DD8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17680" y="1768320"/>
            <a:ext cx="819288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ПРИМЕНУ ОВОГ МЕТОД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врх корена изразито повијен или маљич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остоји ризик од утискивања заломљеног корена у суседне анатомске структуре ( максиларни синус, мандибуларни канал, перимандибуларни прос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грађа вилице изузетно отежава вађење кроз алве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корен заостао, а рана зар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2C4-E29A-4D1D-9753-92C33B1E11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млечних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9" name="Picture 6" descr="C:\Users\Zoran\Downloads\oralna hirurgija\slike\imagemle.jpg"/>
          <p:cNvPicPr/>
          <p:nvPr/>
        </p:nvPicPr>
        <p:blipFill>
          <a:blip r:embed="rId1"/>
          <a:stretch/>
        </p:blipFill>
        <p:spPr>
          <a:xfrm>
            <a:off x="593640" y="1623960"/>
            <a:ext cx="3192480" cy="23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Zoran\Downloads\oralna hirurgija\slike\imageml.jpg"/>
          <p:cNvPicPr/>
          <p:nvPr/>
        </p:nvPicPr>
        <p:blipFill>
          <a:blip r:embed="rId2"/>
          <a:stretch/>
        </p:blipFill>
        <p:spPr>
          <a:xfrm>
            <a:off x="4799160" y="1704960"/>
            <a:ext cx="3929040" cy="226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601560" y="4427640"/>
            <a:ext cx="82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инципу, млечни зуби се ваде на исти начин као 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нтген снимак је од посебног знацаја за планирање екстракције мле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м снимку одређује се однос коренова млечног зуба са сталним замеником, као и степен ресорпције коренова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0378-7133-45B9-B8D2-A674AEE801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путства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69800" y="1492200"/>
            <a:ext cx="810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бегавати храну док траје анест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у не треба исп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 следећег дана одржавати нормалну хигиј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отреби користити аналгетик без без ацетил-салици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ладан облог споља у првих 12 сати након вађ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лучају крварења јавити се дежурној служ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је после интервенције у рану стављено неко страно тело обавезно заказати контролни преглед најкасније у року од 48 с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40A-8C68-4A64-89DF-7EF92C6154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93560" y="144288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1.  ФРАКТУРА КРУНЕ ИЛИ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C:\Users\Zoran\Downloads\oralna hirurgija\slike\20050122294a379efc01d373.99813001.JPG"/>
          <p:cNvPicPr/>
          <p:nvPr/>
        </p:nvPicPr>
        <p:blipFill>
          <a:blip r:embed="rId1"/>
          <a:stretch/>
        </p:blipFill>
        <p:spPr>
          <a:xfrm>
            <a:off x="1355760" y="2001960"/>
            <a:ext cx="6372360" cy="2266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3"/>
          <p:cNvSpPr/>
          <p:nvPr/>
        </p:nvSpPr>
        <p:spPr>
          <a:xfrm>
            <a:off x="360360" y="4740120"/>
            <a:ext cx="848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след анатомских аномалија коренова, или је реч о погрешној техници вађења зуба ( лош избор клешта, лоша апликација клешта као и употреба погрешних и грубих покрет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D08C-5521-4A69-9A0F-5182EFA438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33440" y="174456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ПОВРЕД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1"/>
          <a:srcRect l="0" t="8196" r="4390" b="11359"/>
          <a:stretch/>
        </p:blipFill>
        <p:spPr>
          <a:xfrm>
            <a:off x="368280" y="2538360"/>
            <a:ext cx="3414600" cy="20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2"/>
          <a:stretch/>
        </p:blipFill>
        <p:spPr>
          <a:xfrm>
            <a:off x="5049720" y="2619360"/>
            <a:ext cx="3517920" cy="2050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1"/>
          <p:cNvSpPr/>
          <p:nvPr/>
        </p:nvSpPr>
        <p:spPr>
          <a:xfrm>
            <a:off x="1852560" y="5186520"/>
            <a:ext cx="51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8A6-9E46-46E6-A6A7-7C8B968377F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Picture 11" descr="C:\Users\Zoran\Downloads\oralna hirurgija\slike\imagespolo.jpg"/>
          <p:cNvPicPr/>
          <p:nvPr/>
        </p:nvPicPr>
        <p:blipFill>
          <a:blip r:embed="rId1"/>
          <a:srcRect l="0" t="5899" r="3936" b="11238"/>
          <a:stretch/>
        </p:blipFill>
        <p:spPr>
          <a:xfrm>
            <a:off x="357120" y="2154240"/>
            <a:ext cx="3935520" cy="241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:\Users\Zoran\Downloads\oralna hirurgija\slike\imagepoppp.jpg"/>
          <p:cNvPicPr/>
          <p:nvPr/>
        </p:nvPicPr>
        <p:blipFill>
          <a:blip r:embed="rId2"/>
          <a:stretch/>
        </p:blipFill>
        <p:spPr>
          <a:xfrm>
            <a:off x="5200560" y="2084400"/>
            <a:ext cx="3486240" cy="2879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3"/>
          <p:cNvSpPr/>
          <p:nvPr/>
        </p:nvSpPr>
        <p:spPr>
          <a:xfrm>
            <a:off x="2490840" y="557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ED6-6555-4B5F-834C-B14FE3A355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444600" y="1720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ПОВРЕДА СУСЕДНОГ ЗУБА ИЛИ ЗУБА АНТАГОН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услед погрешне апликације клешта пре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доња вили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лед неправилног рада са полугом ( тачка ослонца на суседном зуб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C:\Users\Zoran\Downloads\oralna hirurgija\slike\slide-29-728 (2).jpg"/>
          <p:cNvPicPr/>
          <p:nvPr/>
        </p:nvPicPr>
        <p:blipFill>
          <a:blip r:embed="rId1"/>
          <a:stretch/>
        </p:blipFill>
        <p:spPr>
          <a:xfrm>
            <a:off x="5934240" y="4084560"/>
            <a:ext cx="2822400" cy="2268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C:\Users\Zoran\Downloads\oralna hirurgija\slike\imagesgfr.jpg"/>
          <p:cNvPicPr/>
          <p:nvPr/>
        </p:nvPicPr>
        <p:blipFill>
          <a:blip r:embed="rId2"/>
          <a:stretch/>
        </p:blipFill>
        <p:spPr>
          <a:xfrm>
            <a:off x="623880" y="4341960"/>
            <a:ext cx="36640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4E3F-EF02-4ACC-BB79-82EE98F9D92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" y="1708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4. ПОВРЕДА АЛВЕОЛАРНОГ НА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C:\Users\Zoran\Downloads\oralna hirurgija\slike\download (5).jpg"/>
          <p:cNvPicPr/>
          <p:nvPr/>
        </p:nvPicPr>
        <p:blipFill>
          <a:blip r:embed="rId1"/>
          <a:srcRect l="17811" t="0" r="13510" b="1998"/>
          <a:stretch/>
        </p:blipFill>
        <p:spPr>
          <a:xfrm>
            <a:off x="1022400" y="3316320"/>
            <a:ext cx="2798640" cy="295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C:\Users\Zoran\Downloads\oralna hirurgija\slike\imagesdlo.jpg"/>
          <p:cNvPicPr/>
          <p:nvPr/>
        </p:nvPicPr>
        <p:blipFill>
          <a:blip r:embed="rId2"/>
          <a:stretch/>
        </p:blipFill>
        <p:spPr>
          <a:xfrm>
            <a:off x="4900680" y="3424320"/>
            <a:ext cx="3516120" cy="2340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746280" y="259884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: анатомски, патолошки и јатр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9B2-D9B1-4451-A038-E409EFE328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444600" y="15159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5. ПРЕЛОМ ТУБЕРА ГОР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C:\Users\Zoran\Downloads\oralna hirurgija\slike\imagesCAFNV19O.jpg"/>
          <p:cNvPicPr/>
          <p:nvPr/>
        </p:nvPicPr>
        <p:blipFill>
          <a:blip r:embed="rId1"/>
          <a:stretch/>
        </p:blipFill>
        <p:spPr>
          <a:xfrm>
            <a:off x="885960" y="2176560"/>
            <a:ext cx="2274840" cy="215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Users\Zoran\Downloads\oralna hirurgija\slike\image12_w.jpg"/>
          <p:cNvPicPr/>
          <p:nvPr/>
        </p:nvPicPr>
        <p:blipFill>
          <a:blip r:embed="rId2"/>
          <a:stretch/>
        </p:blipFill>
        <p:spPr>
          <a:xfrm>
            <a:off x="5518080" y="1617840"/>
            <a:ext cx="3249720" cy="2484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2"/>
          <p:cNvSpPr/>
          <p:nvPr/>
        </p:nvSpPr>
        <p:spPr>
          <a:xfrm>
            <a:off x="650880" y="45846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: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1. хируршко вађење зуба и фрактурираног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хируршко вађење зуба и задржавање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3. имобилизација и фиксација преломљеног тубера заједно с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AD97-A414-4DFE-A4A5-30F4BC80E2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69800" y="1757520"/>
            <a:ext cx="81201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 потребна за вађење зуба, генерално, зависи од две групе фа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валитет и компактност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Zoran\Pictures\imagesCAT2I49G.jpg"/>
          <p:cNvPicPr/>
          <p:nvPr/>
        </p:nvPicPr>
        <p:blipFill>
          <a:blip r:embed="rId1"/>
          <a:stretch/>
        </p:blipFill>
        <p:spPr>
          <a:xfrm>
            <a:off x="6345360" y="2284560"/>
            <a:ext cx="2641320" cy="4103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638280" y="4356000"/>
            <a:ext cx="58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, по правилу, лакше је из спонгиозе него из компактних делова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CDE-50A8-4011-B3B4-6E1B5F98D92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41440" y="1600200"/>
            <a:ext cx="81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6. ПРЕЛОМ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2143080" y="2371680"/>
            <a:ext cx="4908600" cy="19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2205000" y="4475160"/>
            <a:ext cx="48895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BF9-5D79-4ABF-8F30-3E1D4AF36F7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3" name="Picture 9" descr=""/>
          <p:cNvPicPr/>
          <p:nvPr/>
        </p:nvPicPr>
        <p:blipFill>
          <a:blip r:embed="rId1"/>
          <a:stretch/>
        </p:blipFill>
        <p:spPr>
          <a:xfrm>
            <a:off x="766800" y="1547640"/>
            <a:ext cx="3809880" cy="2870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C:\Users\Zoran\Downloads\oralna hirurgija\slike\imagesfrac.jpg"/>
          <p:cNvPicPr/>
          <p:nvPr/>
        </p:nvPicPr>
        <p:blipFill>
          <a:blip r:embed="rId2"/>
          <a:stretch/>
        </p:blipFill>
        <p:spPr>
          <a:xfrm>
            <a:off x="5753160" y="1585800"/>
            <a:ext cx="2838240" cy="291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49200" y="4897440"/>
            <a:ext cx="863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жељно је извршити привремену имобилизацију, или бар ставити повез доње вилице. На тај начин обезбеђује се мировање фраг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смањује бол, помаже спонтано заустављање крварења и ширење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9C34-C824-4D66-AD38-CB6EAD219AC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457200" y="176832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7. ЛУКСАЦИЈА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C:\Users\Zoran\Downloads\oralna hirurgija\slike\zt04.jpg"/>
          <p:cNvPicPr/>
          <p:nvPr/>
        </p:nvPicPr>
        <p:blipFill>
          <a:blip r:embed="rId1"/>
          <a:stretch/>
        </p:blipFill>
        <p:spPr>
          <a:xfrm>
            <a:off x="538200" y="287640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http://conseildentaire.files.wordpress.com/2011/03/atm-nelaton-01.jpg"/>
          <p:cNvPicPr/>
          <p:nvPr/>
        </p:nvPicPr>
        <p:blipFill>
          <a:blip r:embed="rId2"/>
          <a:srcRect l="773" t="0" r="0" b="5894"/>
          <a:stretch/>
        </p:blipFill>
        <p:spPr>
          <a:xfrm>
            <a:off x="5354640" y="2727360"/>
            <a:ext cx="3789360" cy="30114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4"/>
          <p:cNvSpPr/>
          <p:nvPr/>
        </p:nvSpPr>
        <p:spPr>
          <a:xfrm>
            <a:off x="601560" y="5702400"/>
            <a:ext cx="638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авезно урадити урадити репозицију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6C29-08D4-46F0-97F8-675A6BD0695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480960" y="163656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8. ПОТИСКИВАЊЕ КОРЕНА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C:\Users\Zoran\Downloads\oralna hirurgija\slike\download (6).jpg"/>
          <p:cNvPicPr/>
          <p:nvPr/>
        </p:nvPicPr>
        <p:blipFill>
          <a:blip r:embed="rId1"/>
          <a:stretch/>
        </p:blipFill>
        <p:spPr>
          <a:xfrm>
            <a:off x="2619360" y="2744640"/>
            <a:ext cx="400212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а 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ОРОАНТРАЛНА КОМУН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Јатрогена (последица лекарске греш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A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томски узрокована због односа коренова зуба са синусном шупљ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Утискивање корена у синус (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corpus alienum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in antro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E45-7658-4CB3-A15E-78558CD24F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AAD-1214-47B1-B4F0-A342EDDD57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57200" y="1828800"/>
            <a:ext cx="8132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к и повијеност, масивност, број и међусобни однос коренова значајно утичу на ток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из ових разлога пре вађења зуба направити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726000" y="4002120"/>
            <a:ext cx="525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27E-7232-4398-81C1-77B81DC122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57200" y="1587600"/>
            <a:ext cx="81691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Индикације за вађење з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са авиталном пулпом ако се не могу излечити применом савремених ендодонских или ендодонско – хируршких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одонтопатични зуби у терминалној фази обољења, када пародонтолошко лечење не би било ефик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израду задовољавајућих протетских надокнада ( протетичка индикац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корекцију ортодонтске анома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, полуимпактирани и малпонирани 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F5C-2BD9-40FE-855F-46C66712318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80960" y="1563840"/>
            <a:ext cx="8193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Контраинд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псолутне контраиндикације за вађење зуба не посто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ређеним ситуацијама потребно је одложити вађење зуба ради припреме пацијент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за одлагање екстракције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ходно антибиотско лечење са фудројантним флегмонама у орофацијалној ре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тибиотска заштита пацијената са обољењима ендокарда, пацијенти на дијализи, оболели од хемофилиј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ирење акутних и локалних обољења у усној шупљини  (улцеронекротични гингивитис, херпетични стоматитис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591-A5A2-40DE-96DA-4F84617F4E7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:\Users\Zoran\Downloads\oralna hirurgija\slike\te_04.jpg"/>
          <p:cNvPicPr/>
          <p:nvPr/>
        </p:nvPicPr>
        <p:blipFill>
          <a:blip r:embed="rId1"/>
          <a:stretch/>
        </p:blipFill>
        <p:spPr>
          <a:xfrm>
            <a:off x="2430360" y="3772080"/>
            <a:ext cx="4178520" cy="26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Zoran\Downloads\oralna hirurgija\slike\te_03.jpg"/>
          <p:cNvPicPr/>
          <p:nvPr/>
        </p:nvPicPr>
        <p:blipFill>
          <a:blip r:embed="rId2"/>
          <a:stretch/>
        </p:blipFill>
        <p:spPr>
          <a:xfrm>
            <a:off x="2206800" y="1341360"/>
            <a:ext cx="4638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963D-57CF-414B-A9D4-6D7D9FEE838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Picture 7" descr="C:\Users\Zoran\Downloads\oralna hirurgija\slike\te_06.jpg"/>
          <p:cNvPicPr/>
          <p:nvPr/>
        </p:nvPicPr>
        <p:blipFill>
          <a:blip r:embed="rId1"/>
          <a:stretch/>
        </p:blipFill>
        <p:spPr>
          <a:xfrm>
            <a:off x="1932120" y="2071800"/>
            <a:ext cx="50148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4032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FC2-C783-43A9-80A8-97E89605F3E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te_05.jpg"/>
          <p:cNvPicPr/>
          <p:nvPr/>
        </p:nvPicPr>
        <p:blipFill>
          <a:blip r:embed="rId1"/>
          <a:stretch/>
        </p:blipFill>
        <p:spPr>
          <a:xfrm>
            <a:off x="496800" y="1733400"/>
            <a:ext cx="1484280" cy="417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Zoran\Downloads\oralna hirurgija\slike\te_07.jpg"/>
          <p:cNvPicPr/>
          <p:nvPr/>
        </p:nvPicPr>
        <p:blipFill>
          <a:blip r:embed="rId2"/>
          <a:stretch/>
        </p:blipFill>
        <p:spPr>
          <a:xfrm>
            <a:off x="4908600" y="1733400"/>
            <a:ext cx="1463760" cy="4321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2081160" y="188928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93760" y="232236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јна ос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117880" y="3778200"/>
            <a:ext cx="25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6508800" y="1828800"/>
            <a:ext cx="24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6581880" y="253836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Врат пол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6713640" y="387360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8:56Z</dcterms:modified>
  <cp:revision>1044</cp:revision>
  <dc:subject/>
  <dc:title>NAZIV PREDAVANJA</dc:title>
</cp:coreProperties>
</file>